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0.jpeg" ContentType="image/jpeg"/>
  <Override PartName="/ppt/media/image2.gif" ContentType="image/gif"/>
  <Override PartName="/ppt/media/image25.gif" ContentType="image/gif"/>
  <Override PartName="/ppt/media/image6.gif" ContentType="image/gif"/>
  <Override PartName="/ppt/media/image4.gif" ContentType="image/gif"/>
  <Override PartName="/ppt/media/image22.wmf" ContentType="image/x-wmf"/>
  <Override PartName="/ppt/media/image5.wmf" ContentType="image/x-wmf"/>
  <Override PartName="/ppt/media/image21.jpeg" ContentType="image/jpeg"/>
  <Override PartName="/ppt/media/image17.png" ContentType="image/png"/>
  <Override PartName="/ppt/media/image19.png" ContentType="image/png"/>
  <Override PartName="/ppt/media/image16.gif" ContentType="image/gif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24.gif" ContentType="image/gif"/>
  <Override PartName="/ppt/media/image1.gif" ContentType="image/gif"/>
  <Override PartName="/ppt/media/image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F1A-B307-4EE9-8C77-400A9A36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D83-ABE5-482D-A9C6-E87889D5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16D-839E-4A06-9D17-1F41CAEA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42D-5C0D-4036-B3AD-2D2C80F1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711-09D6-4AC4-A40F-D1A33AFA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A95-88B7-4414-82C1-AC33B5BF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FCF-CD7B-496C-9223-B9309552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D6F-2461-46F8-B6CC-9AE7B5C0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15D-3A08-4F29-9E90-F342EB51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7A8-79DB-4CD6-B68C-5E85920A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9DC-1EF1-41D1-8A95-6659387A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9637-C432-4413-AC41-BFC40702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5E66-B2F0-4E12-B0A4-2DD9DEABB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../Movies/Chapter%2008A.mpg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en.wikipedia.org/wiki/Image:Impala_ram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aving for a Rainy Day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ppose you earned extra money by having a part-time job. At first, you might be tempted to spend all of the money, but then you decide to open a bank accou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 What are the benefits of having a bank accoun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What do you have to do if you need some of this mone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What might your body do when it has more energy than it needs to carry out its activiti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What does your body do when it needs energ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91520" y="304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1509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ATP vs. ADP / 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DP = adenosine d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2 phosphat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Has less potential energy than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MP = adenosine mon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1 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Has less potential energy than 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Both of the above are recyc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67080" y="1411200"/>
            <a:ext cx="48769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67080" y="3049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62485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81952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Lose phosphate (break bond) = energy is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666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2743200"/>
            <a:ext cx="2057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Gain phosphate (form bond) = energy is s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7480" y="2120760"/>
            <a:ext cx="7961400" cy="3210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030760" y="1776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51640" y="1776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0920" y="28177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90920" y="340200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360" y="3502080"/>
            <a:ext cx="41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nosine diphosphate (ADP) + Phosph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50400" y="350208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nosine triphosphate (AT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5600" y="4243320"/>
            <a:ext cx="91368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4520" y="4243320"/>
            <a:ext cx="91368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223920"/>
            <a:ext cx="495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8-3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parison of ADP and ATP to a 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Maiandra GD"/>
              </a:rPr>
              <a:t>Endergonic / Exergon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Reactions either use energy or give of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Endergonic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reaction in which energy must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iandra GD"/>
              </a:rPr>
              <a:t>Exergonic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reaction in which energy is given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345960"/>
            <a:ext cx="1752480" cy="1216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926400" y="380880"/>
            <a:ext cx="22176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Formation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is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is the difference between an autotroph and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eterotro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is the fuel for life?  Why must it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ed into another 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is ATP? What are its 3 main pa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ow is ATP used to store and release energ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What is the difference between an endergon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and an exergonic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238880" y="457200"/>
            <a:ext cx="1020960" cy="1020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8017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aiandra GD"/>
              </a:rPr>
              <a:t>Chapter 8.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Energy and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Energy = the ability to d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ex. light, heat, electricity, stored in bonds of chemical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Living things depend 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Even when sleeping, your cells use energy to build new proteins and amino 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828800" y="4800600"/>
            <a:ext cx="2133720" cy="1844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486400" y="4800600"/>
            <a:ext cx="1981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Autotroph vs. Heterotro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utotroph 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 (auto = “self”, trophe = “foo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Organisms that make their own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Plants and some other organisms use light energy from the s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Heterotroph 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(hetero = “other”, trophe = “foo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Obtain energy from the foods that they con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Eat autotrophs or other heterotro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467480" y="1336680"/>
            <a:ext cx="1101960" cy="105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0120" y="4730760"/>
            <a:ext cx="118116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1819440" cy="2743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Impala ram from the Kruger National Park, South Africa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2438280"/>
            <a:ext cx="3175200" cy="212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1600200"/>
            <a:ext cx="2057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Grass gets energy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2096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600200"/>
            <a:ext cx="2819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The impala gets energy from eating the gr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1219320"/>
            <a:ext cx="2057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The leopard gets energy from eating the impa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5257800"/>
            <a:ext cx="792468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Maiandra GD"/>
              </a:rPr>
              <a:t>Which are autotrophs and which are heterotrophs? Explain w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-grass = autotroph (makes its own food)</a:t>
            </a: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-impala and leopard = heterotrophs (get energy from foods they consu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ake a list of 15 different organis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lassify each organism as an autotroph or a heterotro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4572000"/>
            <a:ext cx="7696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Were any of the types of organisms difficult to classify?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1063800" cy="172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05840" y="268200"/>
            <a:ext cx="13525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Fuel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Glucose is called the fuel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Monosaccha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aiandra GD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aiandra GD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aiandra GD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Contains too much energy for cells to use all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Must convert this large amount of energy into a usabl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Like getting change for a vending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676600" cy="2810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129852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629400" y="304920"/>
            <a:ext cx="13431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ATP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T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Adenosine 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Chemical compound that cells use to store and releas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Basic energy source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3 main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de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Ribose (su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3 phosphat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495680" y="4191120"/>
            <a:ext cx="4191120" cy="1593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95680" y="3733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Ade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733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5053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3 Phosphat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ATP a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The energy that ATP carries is found in the bonds between the phosph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Energy is released when these bonds are broken; energy is stored when these bonds are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9680" y="3301920"/>
            <a:ext cx="53341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8:38:21Z</dcterms:created>
  <dc:creator>bpalme</dc:creator>
  <dc:description/>
  <dc:language>en-US</dc:language>
  <cp:lastModifiedBy>udsd</cp:lastModifiedBy>
  <dcterms:modified xsi:type="dcterms:W3CDTF">2009-01-06T12:49:13Z</dcterms:modified>
  <cp:revision>13</cp:revision>
  <dc:subject/>
  <dc:title>Slide 1</dc:title>
</cp:coreProperties>
</file>